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F20-73AA-4272-BE2A-9CB77AF4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5B9-EACF-45D7-8531-BCFF39A5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B91-BC0A-47EF-9524-7AF50045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278-8D8B-40C8-802A-BE42AA77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0BB0-593C-4151-9BAE-E6C88B4C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699B-240A-4651-8777-90E4177D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57C3-2CCD-46E6-A9F6-24C50003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D35B-C979-416D-9697-6B3EE824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2000-3D18-4C5B-9C23-0FFEF4CA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27F4-B6F8-4384-AEFB-41C495AA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6E2B-C2D1-43DE-99BF-590E951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EFE-B271-4E25-AD7B-5A459CF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D590-6ED7-47CF-9EA6-314A036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70B2-5774-4C81-BD25-9851A19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F9C9-7754-444D-A405-717B075F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B568-7ECF-4222-8088-9CAA0947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A4E3-C0F3-4552-AA16-9E959A68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638-A0B7-496A-A0E3-2CFEE191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01D-36FB-4C70-A3DF-F6516136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29C-C2EE-4B81-8576-6E3DA8AF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E25-A202-45AF-BBF1-DDD3360D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2BF-5F7A-4D64-B381-3062A08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090-4E9E-4FCB-92FF-F8C0647A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A9F-FBFA-4999-A266-6C4EF8C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C846-4588-4F61-B86E-54590E2DD7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8FEC-6B19-4B80-85F7-7359CB8F0C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Теория панспермии-</a:t>
            </a:r>
            <a:br>
              <a:rPr sz="44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жизнь на нашу планету занесена извне, из Вселенной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060640"/>
            <a:ext cx="59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потеза была выдвинута Ю.Либихом и Г.Рихтером в середин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иболее полно изложил Сванте Аррениус в 189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гласно гипотезе панспермии жизнь существует вечно и переносится с планеты на планету метеори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ейшие организмы или их споры («семена жизни»), попадая на новую планету и найдя здесь благоприятные условия, размножаются, давая начало эволюции от простейших форм к слож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можно, что жизнь на Земле возникла из одной-единственной колонии микроорганизмов, заброшенных из космо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7003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                                          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60280"/>
            <a:ext cx="525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Для обоснования этой теории  используются многократные появления  НЛО, наскальные изображения предметов, похожих на ракеты и «космонавтов», а  также сообщения якобы о встречах с инопланетянами. При изучении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материалов метеоритов и комет в них   были обнаружены многие  «предшественники живого» - такие вещества, как цианогены, синильная </a:t>
            </a: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ahoma"/>
              </a:rPr>
              <a:t> кислота и органические соединения,  которые,    возможно, сыграли роль «семян», падавших на голую Зем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824400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1948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763640" y="1890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79280" y="4514760"/>
            <a:ext cx="350532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067280" y="3429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067280" y="51577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326280" y="3357720"/>
            <a:ext cx="242892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На найденном в Антарктиде метеорите обнаружены объекты, которые можно идентифицировать как следы жизнедеятельности микроорганизмов из космоса.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56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6751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торонниками этой гипотезы были лауреаты Нобелевской прем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Ф.Крик, Л.Оргел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Ф.Крик основывался на двух косвенных доказательствах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иверсальности генетического код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сти для нормального метаболизма всех живых существ молибдена, который встречается сейчас на планете крайне редк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4888080"/>
            <a:ext cx="7272360" cy="181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920" y="2205000"/>
            <a:ext cx="1125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543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Но если жизнь возникла не на Земле, то как она возникла вне её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59280" y="4506840"/>
            <a:ext cx="230472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16720" y="0"/>
            <a:ext cx="242568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25:37Z</dcterms:created>
  <dc:creator>user</dc:creator>
  <dc:description/>
  <dc:language>en-US</dc:language>
  <cp:lastModifiedBy>user</cp:lastModifiedBy>
  <dcterms:modified xsi:type="dcterms:W3CDTF">2006-11-07T14:44:00Z</dcterms:modified>
  <cp:revision>10</cp:revision>
  <dc:subject/>
  <dc:title>Теория панспермии  внеземное происхожд </dc:title>
</cp:coreProperties>
</file>